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7.png" ContentType="image/png"/>
  <Override PartName="/ppt/media/image6.wmf" ContentType="image/x-wmf"/>
  <Override PartName="/ppt/media/image11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5.wmf" ContentType="image/x-wmf"/>
  <Override PartName="/ppt/media/image28.wmf" ContentType="image/x-wmf"/>
  <Override PartName="/ppt/media/image27.wmf" ContentType="image/x-wmf"/>
  <Override PartName="/ppt/media/image16.png" ContentType="image/png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5.png" ContentType="image/png"/>
  <Override PartName="/ppt/media/image14.wmf" ContentType="image/x-wmf"/>
  <Override PartName="/ppt/media/image3.png" ContentType="image/png"/>
  <Override PartName="/ppt/media/image2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A04E9-A3B3-4ED4-8B63-E5C2E6C7DF35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A86CA-F115-41D3-ABA9-7BF9B8BD540B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080A2-B539-4DFB-9615-D66FE532FBDF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B67BE-921D-4774-8DC8-29A5709892EE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177AF-1081-4F76-98F7-4D0A6043E6F7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B86E4-1BD8-419B-B722-785DA6D98C54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929DA-AAA4-4909-8013-D6AC337D3769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70020-2DAA-497D-9BCB-69BD125F92CD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3E93C-15C3-4527-A38F-248151B468AB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13F46-54E4-4F41-B613-93C480840DA3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232A8-3DCC-457C-86FD-B5B3AF721D45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4F331-7848-4187-9FBE-C0B7995E6421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F8282-B99E-47D1-8D59-685F0C0B6DA0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953A1-D738-446A-8592-658E0F07D6C3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35D5B-9642-42E0-BEB0-5975FCE52802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095EC-E615-4705-B7D3-2F406BF74D89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974E-7C2E-44EE-86AC-C676A58D2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0068-54DE-4BA6-82DF-D1D4B35C7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7CF0-D054-4540-B163-C4A9D1594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BB99-6F2A-4362-805C-5C653B34E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AA9D-4D11-4D7E-8D9F-4D5E2F6D4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B348-7C35-4103-B8A5-E5D191CD2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2A09-4FCD-4C85-9A59-FE210291E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389C-CCE5-4210-B8F4-11843861A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206F-EAC9-4DC2-BB57-0D302FEEB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E59B-D076-4631-BEDD-7E460368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A5C3-4C0E-439D-8A6B-D16AACD3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E391-9777-4473-A6EC-C9E974F6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42508-CE7F-4730-95A9-81292C24EA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7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ТЕХНИЧКА МЕХАНИКА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79280" y="1773360"/>
            <a:ext cx="896472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Проф др Драгослав Шумара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онсултaцij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уторком 10-11, соба 1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ИТЕРАТУР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. Проф Др Наталија Нерловић-Вељковић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еханика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, Научна књига, 198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2. С.Б., Д.Г., Д. Ш. Р. М.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Збирка задатака са испит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БРЗИНА МАТЕРИЈАЛНЕ ТАЧ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77868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звод вектора положаја материјалне тачке по времену представља вектор брзине материјалне тач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Object 5"/>
          <p:cNvGraphicFramePr/>
          <p:nvPr/>
        </p:nvGraphicFramePr>
        <p:xfrm>
          <a:off x="826920" y="3284640"/>
          <a:ext cx="5185080" cy="213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3284640"/>
                    <a:ext cx="5185080" cy="21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УБРЗАЊЕ МАТЕРИЈАЛНЕ ТАЧ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ектор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а и вектор брзине имају правац тангенте на путањ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4"/>
              <p:cNvSpPr txBox="1"/>
              <p:nvPr/>
            </p:nvSpPr>
            <p:spPr>
              <a:xfrm>
                <a:off x="1908000" y="1557360"/>
                <a:ext cx="57636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aphicFrame>
        <p:nvGraphicFramePr>
          <p:cNvPr id="91" name="Object 11"/>
          <p:cNvGraphicFramePr/>
          <p:nvPr/>
        </p:nvGraphicFramePr>
        <p:xfrm>
          <a:off x="0" y="1268280"/>
          <a:ext cx="9144000" cy="517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68280"/>
                    <a:ext cx="9144000" cy="517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УБРЗАЊЕ МАТЕРИЈАЛНЕ ТАЧ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Object 2"/>
          <p:cNvGraphicFramePr/>
          <p:nvPr/>
        </p:nvGraphicFramePr>
        <p:xfrm>
          <a:off x="1214280" y="1689120"/>
          <a:ext cx="5148360" cy="500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689120"/>
                    <a:ext cx="5148360" cy="500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БРЗИНА И УБРЗАЊЕ У ПРИРОДНИМ КООРДИНАТА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17"/>
          <p:cNvGraphicFramePr/>
          <p:nvPr/>
        </p:nvGraphicFramePr>
        <p:xfrm>
          <a:off x="4716360" y="4994280"/>
          <a:ext cx="4251600" cy="137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4994280"/>
                    <a:ext cx="4251600" cy="13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Object 19"/>
          <p:cNvGraphicFramePr/>
          <p:nvPr/>
        </p:nvGraphicFramePr>
        <p:xfrm>
          <a:off x="395280" y="5734080"/>
          <a:ext cx="3889440" cy="53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5280" y="5734080"/>
                    <a:ext cx="388944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Object 22"/>
          <p:cNvGraphicFramePr/>
          <p:nvPr/>
        </p:nvGraphicFramePr>
        <p:xfrm>
          <a:off x="250920" y="1484280"/>
          <a:ext cx="5976720" cy="3902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2" name="Object 2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0920" y="1484280"/>
                    <a:ext cx="5976720" cy="39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БРЗИНА И УБРЗАЊЕ У ПРИРОДНИМ КООРДИНАТА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3"/>
              <p:cNvSpPr txBox="1"/>
              <p:nvPr/>
            </p:nvSpPr>
            <p:spPr>
              <a:xfrm>
                <a:off x="539640" y="2133720"/>
                <a:ext cx="5256360" cy="373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Δs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r>
                              <m:t xml:space="preserve">Δ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num>
                          <m:den>
                            <m:r>
                              <m:t xml:space="preserve">Δs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den>
                        </m:f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  <m:r>
                          <m:t xml:space="preserve">⇒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</m:e>
                      <m:e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  <m:r>
                          <m:t xml:space="preserve">;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  <m:e/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алгебарска вредност брзине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05" name="Object 7"/>
          <p:cNvGraphicFramePr/>
          <p:nvPr/>
        </p:nvGraphicFramePr>
        <p:xfrm>
          <a:off x="4788000" y="2349360"/>
          <a:ext cx="3887640" cy="23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2349360"/>
                    <a:ext cx="3887640" cy="23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БРЗИНА И УБРЗАЊЕ У ПРИРОДНИМ КООРДИНАТА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7"/>
              <p:cNvSpPr txBox="1"/>
              <p:nvPr/>
            </p:nvSpPr>
            <p:spPr>
              <a:xfrm>
                <a:off x="539640" y="1628640"/>
                <a:ext cx="7848720" cy="505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r>
                                  <m:t xml:space="preserve">P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τ</m:t>
                                    </m:r>
                                  </m:e>
                                </m:acc>
                              </m:e>
                              <m:e/>
                            </m:d>
                          </m:e>
                        </m:eqArr>
                        <m:f>
                          <m:num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τ</m:t>
                                </m:r>
                              </m:e>
                            </m:acc>
                            <m:r>
                              <m:t xml:space="preserve">'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τ</m:t>
                                </m:r>
                              </m:e>
                            </m:acc>
                          </m:num>
                          <m:den>
                            <m:r>
                              <m:t xml:space="preserve">Δs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red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вектор  средње  кривине  на  делу   {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</m:eqArr>
                    <m:acc>
                      <m:accPr>
                        <m:chr m:val="¯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'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P</m:t>
                        </m:r>
                      </m:e>
                    </m:acc>
                    <m:acc>
                      <m:accPr>
                        <m:chr m:val="¯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Δs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s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</m:num>
                      <m:den>
                        <m:r>
                          <m:t xml:space="preserve">Δs</m:t>
                        </m:r>
                      </m:den>
                    </m:f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s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Δs</m:t>
                            </m:r>
                          </m:e>
                        </m:d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</m:e>
                        </m:d>
                      </m:num>
                      <m:den>
                        <m:r>
                          <m:t xml:space="preserve">Δ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вектор  кривине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τ</m:t>
                                </m:r>
                              </m:e>
                            </m:acc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2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τ</m:t>
                        </m:r>
                      </m:e>
                    </m:acc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τ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τ</m:t>
                        </m:r>
                      </m:e>
                    </m:acc>
                    <m:r>
                      <m:t xml:space="preserve">⊥</m:t>
                    </m:r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τ</m:t>
                        </m:r>
                      </m:e>
                    </m:acc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num>
                      <m:den>
                        <m:r>
                          <m:t xml:space="preserve">ρ</m:t>
                        </m:r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-полупречник кривине</m:t>
                    </m:r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09" name="Object 11"/>
          <p:cNvGraphicFramePr/>
          <p:nvPr/>
        </p:nvGraphicFramePr>
        <p:xfrm>
          <a:off x="5867280" y="4397400"/>
          <a:ext cx="2592360" cy="182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4397400"/>
                    <a:ext cx="2592360" cy="18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БРЗИНА И УБРЗАЊЕ У ПРИРОДНИМ КООРДИНАТА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3"/>
          <p:cNvGraphicFramePr/>
          <p:nvPr/>
        </p:nvGraphicFramePr>
        <p:xfrm>
          <a:off x="826920" y="2104920"/>
          <a:ext cx="5472360" cy="351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104920"/>
                    <a:ext cx="5472360" cy="35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РИМЕР:Кружно кретан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Object 3"/>
          <p:cNvGraphicFramePr/>
          <p:nvPr/>
        </p:nvGraphicFramePr>
        <p:xfrm>
          <a:off x="611280" y="1746360"/>
          <a:ext cx="8208720" cy="427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746360"/>
                    <a:ext cx="8208720" cy="42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11"/>
          <p:cNvGraphicFramePr/>
          <p:nvPr/>
        </p:nvGraphicFramePr>
        <p:xfrm>
          <a:off x="4356000" y="1125360"/>
          <a:ext cx="4032360" cy="410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1125360"/>
                    <a:ext cx="403236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РИМЕР:Кружно кретан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Object 3"/>
          <p:cNvGraphicFramePr/>
          <p:nvPr/>
        </p:nvGraphicFramePr>
        <p:xfrm>
          <a:off x="611280" y="1327320"/>
          <a:ext cx="7451640" cy="44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327320"/>
                    <a:ext cx="7451640" cy="44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Object 9"/>
          <p:cNvGraphicFramePr/>
          <p:nvPr/>
        </p:nvGraphicFramePr>
        <p:xfrm>
          <a:off x="6715080" y="1413000"/>
          <a:ext cx="2033640" cy="142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15080" y="1413000"/>
                    <a:ext cx="2033640" cy="14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4" name="Object 11"/>
              <p:cNvSpPr txBox="1"/>
              <p:nvPr/>
            </p:nvSpPr>
            <p:spPr>
              <a:xfrm>
                <a:off x="7812000" y="1916280"/>
                <a:ext cx="60336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КИНЕМАТИЧКИ ДИЈАГР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акон пута: 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s=s(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Object 4"/>
          <p:cNvGraphicFramePr/>
          <p:nvPr/>
        </p:nvGraphicFramePr>
        <p:xfrm>
          <a:off x="611280" y="2133720"/>
          <a:ext cx="4321080" cy="161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133720"/>
                    <a:ext cx="4321080" cy="16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Object 12"/>
          <p:cNvGraphicFramePr/>
          <p:nvPr/>
        </p:nvGraphicFramePr>
        <p:xfrm>
          <a:off x="0" y="3716280"/>
          <a:ext cx="9144000" cy="295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716280"/>
                    <a:ext cx="9144000" cy="29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ОБАВЕЗЕ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 СТУДЕНА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3 до 4 домаћа (само се у јануару рачунају за испи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2 колоквију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сп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КИНЕМАТИЧКИ ДИЈАГР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8"/>
          <p:cNvGraphicFramePr/>
          <p:nvPr/>
        </p:nvGraphicFramePr>
        <p:xfrm>
          <a:off x="468360" y="1341360"/>
          <a:ext cx="3303720" cy="528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341360"/>
                    <a:ext cx="3303720" cy="52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5027760" y="1600200"/>
            <a:ext cx="3279600" cy="218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Object 13"/>
          <p:cNvGraphicFramePr/>
          <p:nvPr/>
        </p:nvGraphicFramePr>
        <p:xfrm>
          <a:off x="4788000" y="2519280"/>
          <a:ext cx="3311280" cy="2384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6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88000" y="2519280"/>
                    <a:ext cx="3311280" cy="23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ДИНАМИКА МАТЕРИЈАЛНЕ ТАЧ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71516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ЊУТНОВИ АКСИОМИ МЕХАНИК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КСИОМ (ЗАКОН ИНЕРЦИЈ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вако тело остаје у стању мировања или једноликог праволинијског кретања, све док деловањем силе не буде принуђено да то стање пром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ЊУТНОВ ЗАК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омена количине кретања тела(материјалне тачке) пропорционална је сили која делује на тело (материјалну тачку) и врши се у правцу и смеру деловања силе. (Или, производ из масе материјалне тачке и њеног убрзања једнак је, по интензитету, правцу и смеру, сили која делује на материјалну тачку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Object 4"/>
          <p:cNvGraphicFramePr/>
          <p:nvPr/>
        </p:nvGraphicFramePr>
        <p:xfrm>
          <a:off x="1258920" y="5850000"/>
          <a:ext cx="2305080" cy="10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5850000"/>
                    <a:ext cx="230508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II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кон (Закон акције и реакциј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зајамни механички утицаји двају тела испољавају се силама које имају исти интензитет и правац, а делују у супротним смеров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V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кон (Закон о слагањ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ко на тело (материјалну ачку) делују истовремено две силе, тада се тело (материјална тачка) креће описујући дијагоналу паралелограма конструисаног над тим силама као вектор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smeni (teorijski) deo ispita iz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TEHNIČKE MEHANIKE 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(pismeni održan 24.01.2005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zvesti izraze za brzinu i ubrzanje materijalne tač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 prirodnim kooordinatama a zatim za tačku 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koja 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reće konstantnom brzinom na svakom od delov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I, II, III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drediti vrednost brzine tako da ubrzanje bude konstantno na svakom od ovih delov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КИНЕМАТИКА ТАЧ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ИНЕМАТИКА је део МЕХАНИКЕ који се бави проучавањем кретања материјалне тачке или тела не узимајући у обзир утицај сила на то кретањ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ваки делић тела представља материјалну тач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slike"/>
          <p:cNvPicPr/>
          <p:nvPr/>
        </p:nvPicPr>
        <p:blipFill>
          <a:blip r:embed="rId1"/>
          <a:stretch/>
        </p:blipFill>
        <p:spPr>
          <a:xfrm>
            <a:off x="755640" y="3213000"/>
            <a:ext cx="4537080" cy="3186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Object 9"/>
          <p:cNvGraphicFramePr/>
          <p:nvPr/>
        </p:nvGraphicFramePr>
        <p:xfrm>
          <a:off x="3059280" y="4221000"/>
          <a:ext cx="2736720" cy="1519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59280" y="4221000"/>
                    <a:ext cx="2736720" cy="15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ТРАЈЕКТОРИЈА ТАЧ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4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утања тачке (трајекторија) је ходограф вектора положај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Коначна једначина кретања тачке у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векторском облику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ј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Object 9"/>
          <p:cNvGraphicFramePr/>
          <p:nvPr/>
        </p:nvGraphicFramePr>
        <p:xfrm>
          <a:off x="4500720" y="1413000"/>
          <a:ext cx="3816360" cy="374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1413000"/>
                    <a:ext cx="3816360" cy="37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1" name="Object 12"/>
              <p:cNvSpPr txBox="1"/>
              <p:nvPr/>
            </p:nvSpPr>
            <p:spPr>
              <a:xfrm>
                <a:off x="826920" y="5589720"/>
                <a:ext cx="46198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+</m:t>
                    </m:r>
                    <m:r>
                      <m:t xml:space="preserve">z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ТРАЈЕКТОРИЈА ТАЧ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и кретању тачке бар једна координата мора да се мењ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начна једначина кретања тачке у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координатном облику ј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7"/>
              <p:cNvSpPr txBox="1"/>
              <p:nvPr/>
            </p:nvSpPr>
            <p:spPr>
              <a:xfrm>
                <a:off x="468360" y="3716280"/>
                <a:ext cx="8675640" cy="15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y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</m:e>
                    </m:eqArr>
                    <m:r>
                      <m:rPr>
                        <m:lit/>
                        <m:nor/>
                      </m:rPr>
                      <m:t xml:space="preserve"> КООРДИНАТНИ ОБЛИК ЈЕДНАЧИНЕ КРЕТАЊА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риродни начин описивања кретањ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Код природног начина описивања кретања путања и лучна координата мерена по путањи </a:t>
            </a:r>
            <a:r>
              <a:rPr b="0" i="1" lang="sr-Latn-CS" sz="2600" spc="-1" strike="noStrike">
                <a:solidFill>
                  <a:srgbClr val="000000"/>
                </a:solidFill>
                <a:latin typeface="Arial"/>
              </a:rPr>
              <a:t>s=s(t)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одређују положај тачке у било ком тренутку времен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8"/>
          <p:cNvGraphicFramePr/>
          <p:nvPr/>
        </p:nvGraphicFramePr>
        <p:xfrm>
          <a:off x="3851280" y="2781360"/>
          <a:ext cx="4464000" cy="382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2781360"/>
                    <a:ext cx="4464000" cy="38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Object 4"/>
          <p:cNvGraphicFramePr/>
          <p:nvPr/>
        </p:nvGraphicFramePr>
        <p:xfrm>
          <a:off x="1332000" y="2708280"/>
          <a:ext cx="6335640" cy="313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2708280"/>
                    <a:ext cx="6335640" cy="31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Object 7"/>
          <p:cNvGraphicFramePr/>
          <p:nvPr/>
        </p:nvGraphicFramePr>
        <p:xfrm>
          <a:off x="1258920" y="1557360"/>
          <a:ext cx="5184720" cy="849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8920" y="1557360"/>
                    <a:ext cx="518472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Rectangle 9"/>
          <p:cNvSpPr/>
          <p:nvPr/>
        </p:nvSpPr>
        <p:spPr>
          <a:xfrm>
            <a:off x="468360" y="333360"/>
            <a:ext cx="8229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риродни начин описивања кретањ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БРЗИНА МАТЕРИЈАЛНЕ ТАЧ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Object 16"/>
          <p:cNvGraphicFramePr/>
          <p:nvPr/>
        </p:nvGraphicFramePr>
        <p:xfrm>
          <a:off x="539640" y="1197000"/>
          <a:ext cx="4356360" cy="43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197000"/>
                    <a:ext cx="435636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8" name="Object 19"/>
              <p:cNvSpPr txBox="1"/>
              <p:nvPr/>
            </p:nvSpPr>
            <p:spPr>
              <a:xfrm>
                <a:off x="5003640" y="2617920"/>
                <a:ext cx="3097440" cy="14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vektor  pomeranja</m:t>
                        </m:r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t xml:space="preserve">Δ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num>
                              <m:den>
                                <m:r>
                                  <m:t xml:space="preserve">Δt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БРЗИНА МАТЕРИЈАЛНЕ ТАЧ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Object 4"/>
          <p:cNvGraphicFramePr/>
          <p:nvPr/>
        </p:nvGraphicFramePr>
        <p:xfrm>
          <a:off x="755640" y="1413000"/>
          <a:ext cx="4989600" cy="170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413000"/>
                    <a:ext cx="4989600" cy="17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Object 8"/>
          <p:cNvGraphicFramePr/>
          <p:nvPr/>
        </p:nvGraphicFramePr>
        <p:xfrm>
          <a:off x="3708360" y="2205000"/>
          <a:ext cx="4105440" cy="449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8360" y="2205000"/>
                    <a:ext cx="410544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7-09-30T20:45:09Z</dcterms:modified>
  <cp:revision>69</cp:revision>
  <dc:subject/>
  <dc:title>ТЕХНИЧКА МЕХАНИКА 2</dc:title>
</cp:coreProperties>
</file>